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16-EA38-4057-B95B-30DFFD96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433-0E18-40F6-A8D5-165E32B9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D4A-6963-46D8-B722-746E7EC9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F32-7D26-4714-A986-70669D62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953-6773-4C56-955D-E015EEF6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660-9F5D-4D54-8CFD-BDAE285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215-9ECD-446D-9032-B266DA8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C4-9F54-4BF6-AFB0-64C8F89C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B37-ACD1-4427-9F5B-E4C349F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E0A-7A9F-4114-BA1B-25A128D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3F5-81E7-4279-BF6E-20655E64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0F0-A3EA-42A9-9A0C-F642334C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66351-B812-4CC1-864E-FC6B2B9F7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F8212-32E0-4258-8C96-2906C1784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6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7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20.jpg"/>
          <p:cNvPicPr/>
          <p:nvPr/>
        </p:nvPicPr>
        <p:blipFill>
          <a:blip r:embed="rId1"/>
          <a:stretch/>
        </p:blipFill>
        <p:spPr>
          <a:xfrm>
            <a:off x="0" y="262080"/>
            <a:ext cx="6858000" cy="86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2314440" y="312264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3240">
                  <a:solidFill>
                    <a:srgbClr val="f2f2f2"/>
                  </a:solidFill>
                  <a:miter/>
                </a:ln>
                <a:gradFill rotWithShape="0">
                  <a:gsLst>
                    <a:gs pos="0">
                      <a:srgbClr val="f79646"/>
                    </a:gs>
                    <a:gs pos="100000">
                      <a:srgbClr val="f9b47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de9d9">
                      <a:alpha val="50000"/>
                    </a:srgbClr>
                  </a:outerShdw>
                </a:effectLst>
                <a:latin typeface="Garamond"/>
              </a:rPr>
              <a:t>The End</a:t>
            </a:r>
            <a:endParaRPr b="1" lang="en-US" sz="5400" spc="1" strike="noStrike">
              <a:ln w="3240">
                <a:solidFill>
                  <a:srgbClr val="f2f2f2"/>
                </a:solidFill>
                <a:miter/>
              </a:ln>
              <a:gradFill rotWithShape="0">
                <a:gsLst>
                  <a:gs pos="0">
                    <a:srgbClr val="f79646"/>
                  </a:gs>
                  <a:gs pos="100000">
                    <a:srgbClr val="f9b47b"/>
                  </a:gs>
                </a:gsLst>
                <a:lin ang="5400000"/>
              </a:gradFill>
              <a:effectLst>
                <a:outerShdw dist="153753" dir="2700000" blurRad="0" rotWithShape="0">
                  <a:srgbClr val="fde9d9">
                    <a:alpha val="5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284040"/>
            <a:ext cx="6858000" cy="85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2:37:11Z</dcterms:created>
  <dc:creator>Beverly Moshier</dc:creator>
  <dc:description/>
  <dc:language>en-US</dc:language>
  <cp:lastModifiedBy>Beverly Moshier</cp:lastModifiedBy>
  <dcterms:modified xsi:type="dcterms:W3CDTF">2012-03-05T12:53:17Z</dcterms:modified>
  <cp:revision>1</cp:revision>
  <dc:subject/>
  <dc:title>Slide 1</dc:title>
</cp:coreProperties>
</file>